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9C86-F935-46F3-BB88-C6DCC860B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D681-6D23-43F0-9D2C-745D2F86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B09F-0A35-4025-82D2-3618B8144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01E3-FEBE-445F-B164-79EB2CFBD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5F0A-F803-454B-85E5-DD589BBA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0A39-6CEE-4EDE-AE90-B814EB3D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AFA6-65D2-4281-901F-8F6681E7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2AF3-50DA-47F9-BE83-4C62FB56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2D54-0C42-4EE2-8D3D-102B46E9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7115-CFE8-4D44-B78C-1F9DA338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34DA-FD2B-4A91-B2E8-DF4DE419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66B6-B47E-4D8C-9621-D8572778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rush Script MT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DE61-3AC4-4D47-A688-82148A8BCDA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99"/>
                </a:solidFill>
                <a:latin typeface="Brush Script MT"/>
              </a:rPr>
              <a:t>Tour of Yorkshire</a:t>
            </a: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Brush Script MT"/>
              </a:rPr>
              <a:t>7 – 12 July 2014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68360" y="6021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Brush Script MT"/>
              </a:rPr>
              <a:t>PMMM Cycles Lt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10:04:06Z</dcterms:created>
  <dc:creator/>
  <dc:description/>
  <dc:language>en-US</dc:language>
  <cp:lastModifiedBy/>
  <dcterms:modified xsi:type="dcterms:W3CDTF">2014-03-13T09:52:23Z</dcterms:modified>
  <cp:revision>1</cp:revision>
  <dc:subject/>
  <dc:title/>
</cp:coreProperties>
</file>